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3EB-BCD7-4B17-9A56-0C6CCF8E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8A8-D3BB-41C5-9354-0F89C92F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395-01E4-4B85-A9D9-82152D4C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298-3E2B-49C7-A065-ECDDA78E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5A77-7976-49BB-97ED-F8EEECA6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A86-697E-4C3F-BBDD-9B6405C9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502-614F-4020-88B5-E8543A21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A033-DE6D-4133-AC47-6AD008A1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A029-5FB6-4F6A-BEC1-B2917CF7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F12D-B2A3-4F1A-AD40-101BA70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6F8-275D-4ACF-9FC7-AE370EA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FA4-326C-4E74-BB3F-6C5D2308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E8EF-01A1-4AAD-BD7A-80F13E27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439D-657D-42D3-B22C-FC9C9319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18DB-0749-4540-8F4D-D9F9816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F8B9-3163-41C9-9560-326E0F35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8388-ADD0-4E80-814D-EC6FE94F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091-F540-456F-B6AD-5EE6007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B199-15E0-4998-A8BF-0914A23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E7B1-9858-4374-B5A5-8377207F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FB0-ED9C-415E-B67B-E7235D52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D5C-5DE9-43A5-8EEE-8B8E487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0399-C617-4EC0-A121-0B76F59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82B1-0163-4B12-B1CA-C41438F6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80DC-CEF4-43C3-BEC8-BC663815C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BAF-8B6B-4640-B952-32903BE1A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s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fine Content Area Literacy, Reflect on Class and Discuss Next Steps, Complete Course Evalu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t Topic #3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ntent Area Literac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27360"/>
            <a:ext cx="822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 is this a Hot Topic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sconception that English Teachers are the only ones responsible for reading and writ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ur expertise in effective teaching applies to all discipli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 will be resources for Content Area teachers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we’re using kids’ desire to be members of the club in order to engage them, we must think about what it means to be a member of the club of historians, scientists, or mathematicians” (Wilhelm 154)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Opening the Conversation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Introducing the Correspondence Concep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ll in the blanks for the following Stems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 be a scholar of ______________ is to ____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 be a student of _________ requires students to ________________ about 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need to study _________ because _______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 chose to teach _________ because I feel it helps students ____________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nal Questions for Consider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is literacy?  What does it mean to be “literate”?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o is responsible for teaching literacy skill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are our next steps as educators?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orries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ebrations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46:22Z</dcterms:created>
  <dc:creator>BSD</dc:creator>
  <dc:description/>
  <dc:language>en-US</dc:language>
  <cp:lastModifiedBy>Phil Bear</cp:lastModifiedBy>
  <dcterms:modified xsi:type="dcterms:W3CDTF">2011-05-05T21:50:53Z</dcterms:modified>
  <cp:revision>10</cp:revision>
  <dc:subject/>
  <dc:title>Our Goal for Today:</dc:title>
</cp:coreProperties>
</file>